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054-350B-41B4-8C94-3F7B8564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ADC-3269-44D2-9807-96D1669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7EB-A0E4-471C-8102-668CD047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086-61F5-40B2-8CFC-76F026C5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483C-1B69-4A70-A38B-FCEFC938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1AE2-BE6B-4CA7-ACAF-4D65ED0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1AE2-20B7-4329-B136-BAD7562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3EC7-3D20-4B35-80FA-F9B9DDAC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2EF9-B4B9-43B9-8A41-9AACA93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A63-3281-4EE9-B1D8-662A3760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992-5820-4D9D-906B-9B4E2456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752-DB5B-4F7C-B3BA-C5BF80DC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6EDD-E32E-4C02-B91E-349C924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D34B-ED1F-4196-B4F2-2BC93EE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A5B1-C896-4A8B-9A90-7DBA994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28E9-795F-4A32-A4FB-A95155A2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193-1957-45FA-A2ED-E2C178D8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215-17EA-468C-9A52-6C7FE233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C1F-8655-4C83-A8BC-7FD2889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387-61D8-4188-8B1E-875A5E4B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E40-FFF0-4C2A-B36A-222213FC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810-F1AD-4BE2-A756-B04956E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5CD-398F-43D0-9D33-81327BC0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3D3-D005-4FD7-A793-10473F60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5A26-86E3-41E5-BC14-BDEC8C3D96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D60A-141B-4E47-ACAB-8626B4EB95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ivery m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dactic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297400" y="3352680"/>
            <a:ext cx="3084480" cy="205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book 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-centered                 questioning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18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3-09-08T00:05:13Z</dcterms:modified>
  <cp:revision>346</cp:revision>
  <dc:subject/>
  <dc:title>Slide 1</dc:title>
</cp:coreProperties>
</file>